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E606-AF27-4A66-B4A1-93FC6A74A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F6FE-0563-4FDA-945F-8CD3BFD2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98BF-1DF1-4A2F-BF75-6F76A6120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D452-2D6D-43D8-B16F-AADD86ADB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5DA6-88E8-4034-AEC6-65D58375B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72CF-1776-41C1-A737-DC101CEF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0314-8F37-4E72-9D7B-5825E348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FC51-A679-4AB9-B29F-C4E64655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0BBA-D120-4BB9-B041-31651830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F1D1-F710-4151-B9D7-04C16873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8F26-096C-4BA6-96B7-FBB8C798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BD3A-1D65-45DB-A9BE-10BA87BA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706F-FBA3-484D-93E9-F7BA4451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43F4-8BF4-4DC5-97A1-768D2F1D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F6FF-252F-432B-B398-E22AAADB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6473-3E03-4B71-B9EE-1E838CCD0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E040-7CA9-4921-8B01-7BDCBE166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3B30-8201-4F7F-94D0-2AF11B7E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6276-F3C0-4869-856C-1D51D88F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EA82-E9BF-4C20-A264-8125ADB1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85B4-ED48-4A8A-A846-09DD4C68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C252-3F1A-4F4B-9E2A-AFDCB08A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E307-9D57-4512-BE6A-103B765F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AB64-681E-4D2C-877C-1F0B73D2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8138-92DE-4A3C-96CF-FCEC83287167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5F61-D28F-41E0-AF2D-CAA85F95E45B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4. pályázati kiírás online pályázati moduljána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Fő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714680"/>
            <a:ext cx="35719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Ő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KT CÍ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fejező, nem túl hossz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ÖVID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ax 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2052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216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714240" y="2786040"/>
            <a:ext cx="33814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Azonos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500880" y="16430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ARTNER ADAT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ROJEKTRE VONATKOZÓ PARTNERAD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2136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Képvisel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71360" y="1714680"/>
            <a:ext cx="6213600" cy="4214520"/>
          </a:xfrm>
          <a:prstGeom prst="rect">
            <a:avLst/>
          </a:prstGeom>
          <a:ln w="0">
            <a:noFill/>
          </a:ln>
        </p:spPr>
      </p:pic>
      <p:sp>
        <p:nvSpPr>
          <p:cNvPr id="116" name="Szövegdoboz 7"/>
          <p:cNvSpPr/>
          <p:nvPr/>
        </p:nvSpPr>
        <p:spPr>
          <a:xfrm>
            <a:off x="6500880" y="171468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APCSOLATTAR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ÖRVÉNYES KÉPVISEL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7"/>
          <p:cNvSpPr/>
          <p:nvPr/>
        </p:nvSpPr>
        <p:spPr>
          <a:xfrm>
            <a:off x="6000840" y="1000080"/>
            <a:ext cx="30002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SZÁM / PROJEKTMEGVALÓSÍTÁSI TAPASZTAL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UTOLSÓ LEZÁRT ÜZLETI 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. MEGVALÓSÍTÁSÁNAK HELYSZÍ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91320" cy="3929040"/>
          </a:xfrm>
          <a:prstGeom prst="rect">
            <a:avLst/>
          </a:prstGeom>
          <a:ln w="0">
            <a:noFill/>
          </a:ln>
        </p:spPr>
      </p:pic>
      <p:sp>
        <p:nvSpPr>
          <p:cNvPr id="119" name="Szövegdoboz 6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Üzleti 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gyüttműködési kritéri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6000840" y="1746360"/>
            <a:ext cx="30002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Érték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Leírá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42920" y="1781280"/>
            <a:ext cx="572436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2857680" y="428760"/>
            <a:ext cx="6000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Projekt leí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6143760" y="1000080"/>
            <a:ext cx="2857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ax. karakterszám: 2000 +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Szövegdoboz 6" descr=""/>
          <p:cNvPicPr/>
          <p:nvPr/>
        </p:nvPicPr>
        <p:blipFill>
          <a:blip r:embed="rId1"/>
          <a:stretch/>
        </p:blipFill>
        <p:spPr>
          <a:xfrm>
            <a:off x="133200" y="4492800"/>
            <a:ext cx="8913960" cy="1616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592956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Célok és tevékenység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onatkozó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ervezett költ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-e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285840" y="2214720"/>
            <a:ext cx="442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10"/>
          <p:cNvSpPr/>
          <p:nvPr/>
        </p:nvSpPr>
        <p:spPr>
          <a:xfrm>
            <a:off x="6286680" y="171468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Finanszírozási forrá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részletes költségve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ütemez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6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21360" cy="31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Választott partner részletes költségveté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286680" y="1553760"/>
            <a:ext cx="264312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Előkészítő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emélyi köl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Útiköltség és alapellátmány (napidíj és szállá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olgáltat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Beszerzések (Eszközö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Építési beruhá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Rezsi, működési és adminisztratív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42920" y="1857240"/>
            <a:ext cx="61167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hu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lovák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sk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pályázatot két nyelven kell kitölten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a megnyitott felület nyelvétől függetlenü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rjük tanulmányozzák az IMIR 2007-2013 Front Office Felhasználói Kézikönyvet, amely megtalálható a pályázati felhívás mellékletei közö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32520" cy="3286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357120" y="3357720"/>
            <a:ext cx="621504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zövegdoboz 10"/>
          <p:cNvSpPr/>
          <p:nvPr/>
        </p:nvSpPr>
        <p:spPr>
          <a:xfrm>
            <a:off x="6215040" y="1571760"/>
            <a:ext cx="2714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olgáltatások 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eszerzések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2548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142920" y="3357720"/>
            <a:ext cx="4819680" cy="2022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142920" y="4714920"/>
            <a:ext cx="300024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a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47" name="Szövegdoboz 6"/>
          <p:cNvSpPr/>
          <p:nvPr/>
        </p:nvSpPr>
        <p:spPr>
          <a:xfrm>
            <a:off x="142920" y="1143000"/>
            <a:ext cx="6572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Finanszírozási for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10"/>
          <p:cNvSpPr/>
          <p:nvPr/>
        </p:nvSpPr>
        <p:spPr>
          <a:xfrm>
            <a:off x="6286680" y="1643040"/>
            <a:ext cx="27144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Ütemez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51" name="Téglalap 6"/>
          <p:cNvSpPr/>
          <p:nvPr/>
        </p:nvSpPr>
        <p:spPr>
          <a:xfrm>
            <a:off x="142920" y="4929120"/>
            <a:ext cx="88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70c0"/>
                </a:solidFill>
                <a:latin typeface="Arial"/>
              </a:rPr>
              <a:t>Ne feledje, hogy a programban a visszafizetés hosszú, kétszintű folyamat, vagyis 4-6 hónap is eltelhet a kifizetett számlák benyújtásától az ellenőrző testületeknek addig, míg az ERFA támogatás összege kifizetésre ker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10"/>
          <p:cNvSpPr/>
          <p:nvPr/>
        </p:nvSpPr>
        <p:spPr>
          <a:xfrm>
            <a:off x="6286680" y="1643040"/>
            <a:ext cx="2714400" cy="34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káto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 és 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ÓDOSÍT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tel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Indikátor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9588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gyéb eszközö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ommunikációs eszközö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2857680" cy="2876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3214800" y="3416400"/>
            <a:ext cx="57434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ngedély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72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llenőrző lis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4091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10"/>
          <p:cNvSpPr/>
          <p:nvPr/>
        </p:nvSpPr>
        <p:spPr>
          <a:xfrm>
            <a:off x="6215040" y="1643040"/>
            <a:ext cx="27860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száma és címe, hogy kötelező-e vagy sem, és hogy milyen módon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gjelölheti, hogy az adott mellékletet csatolta vagy elküld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142920" y="1666800"/>
            <a:ext cx="5929200" cy="4303800"/>
          </a:xfrm>
          <a:prstGeom prst="rect">
            <a:avLst/>
          </a:prstGeom>
          <a:ln w="0">
            <a:noFill/>
          </a:ln>
        </p:spPr>
      </p:pic>
      <p:sp>
        <p:nvSpPr>
          <p:cNvPr id="16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Melléklet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DOKUMENT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zövegdoboz 10"/>
          <p:cNvSpPr/>
          <p:nvPr/>
        </p:nvSpPr>
        <p:spPr>
          <a:xfrm>
            <a:off x="5286240" y="1571760"/>
            <a:ext cx="35719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TÖLTÉ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DOKUMENTUMOK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pír alapon csak - az eredeti aláírásokkal ellátott – melléklet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űrlapot szintén nem szükséges kinyomtatni. Az elektronikus formában elérhető mellékletek és egyéb támogató dokumentumok szintén feltölthetőek az elektronikus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modul elérhető a honlapunkon a pályázati kiírás oldalán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BENYÚJTÁ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z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TZÉS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Sikeres pályázást kíváno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anadz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h. név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ami megjegyezhet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4451400" cy="1785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2"/>
          <a:stretch/>
        </p:blipFill>
        <p:spPr>
          <a:xfrm>
            <a:off x="285840" y="4143240"/>
            <a:ext cx="44514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létrehoz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folytat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nem törlőd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hiánypótlás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1926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285920"/>
            <a:ext cx="357192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ÖRL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OVÁBB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BENYÚJTÁS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az ellenőrzött és megfelelően kitöltött pályáza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KILÉP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42920" y="127008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2857680" y="35712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285920"/>
            <a:ext cx="357192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ÁTTEKIN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ŰRLAP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ja és részletezi a tervezett projektet. A táblázat soraihoz ún.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OKUMENTUM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285920"/>
            <a:ext cx="35719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szerkesztését,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8-30T15:05:53Z</dcterms:modified>
  <cp:revision>52</cp:revision>
  <dc:subject/>
  <dc:title>1. dia</dc:title>
</cp:coreProperties>
</file>